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10080625" cy="755967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330E-AD1A-4572-A471-D654824FF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372200"/>
            <a:ext cx="907272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B8CD-1452-41AD-8443-704C20036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C151-2C2C-424E-ADE0-36A6D9CB5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176328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28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37220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437220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220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B41D-53E2-4371-86E2-89FA1DFB9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0AAE8-EB98-4D27-B6C7-E3C4109FB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2A856-2545-46E6-BE20-891088C0B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8B74D-E14B-4D86-BD2F-6CB683A3D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C5864-5D51-4DD2-B60B-6B4B905F9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0C6AA-2648-4B04-BE59-B629F07CE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4720" y="174600"/>
            <a:ext cx="9072720" cy="64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3FC23-46BB-4DDB-BA01-1AE73F619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472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62CEF-F9DD-4CAC-9F45-A2A8AB3C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A411-1773-41AD-9358-545C4126C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376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39A1E-8EBD-4E55-83BE-362188D3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4720" y="4372200"/>
            <a:ext cx="907272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AC804-9F16-4C02-9978-85A5B04E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720" y="4372200"/>
            <a:ext cx="907272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503CB-377B-43F4-B857-4D2DF955E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472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376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91765-93E4-42E2-B55E-073CB2B76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2280" y="176328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9840" y="176328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720" y="437220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2280" y="437220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9840" y="437220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373B4-A4F5-4F6C-8201-AC03D449C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98FE4-FDC1-4E8B-9457-8F392674F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15753-0DC4-4047-8B4D-79C56D4F8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36051-2AA0-4C6C-B977-116BEB53B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5C452-7A87-4B86-8A40-13233351E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ACE9B-F574-4932-8DFE-248A8B0FA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AE48-9816-44DE-AE2C-EA01F122A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504720" y="174600"/>
            <a:ext cx="9072720" cy="64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1A451-DEED-41B3-BDEF-5BE046A20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472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57112-EC09-4E9A-BFBD-AA459BEB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15376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80341-F20C-415D-BF3D-B69715BC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4720" y="4372200"/>
            <a:ext cx="907272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8B482-31CC-4B25-880A-47D898CC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04720" y="4372200"/>
            <a:ext cx="907272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64A21-66C3-4409-8240-AA19FCD71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472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15376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DA857-A162-4CB4-B37C-F17DE9B29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72280" y="176328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639840" y="176328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04720" y="437220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72280" y="437220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639840" y="437220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FD267-39AB-4EEE-A72D-5FEBAAD9B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19807-A727-4975-9D90-D4064217A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F3444-DA1E-45F5-9311-BCBB0724A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A2A8B-A178-4FB8-8BE6-66235590D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4C09-CBCF-40CC-BCEC-DD0CB6EAB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71A0B-BC14-4600-9D51-2B96A4708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243A5-6AF9-4432-90A5-4187991AB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504720" y="174600"/>
            <a:ext cx="9072720" cy="64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2F219-CFF3-41E7-856A-8D6ACE53E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50472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28E22-4222-40EF-A85F-02576456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15376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22007-D67E-4A85-B5D3-50D82450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04720" y="4372200"/>
            <a:ext cx="907272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801C6-479E-467B-9DED-FCAA4B68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04720" y="4372200"/>
            <a:ext cx="907272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45587-09B1-4E53-ABDF-E59221114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472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515376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EDB15-0516-4298-9747-47912513C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72280" y="176328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639840" y="176328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504720" y="437220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572280" y="437220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639840" y="437220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F8EF2-7DE3-48FB-A17E-DC0920433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1151-9836-43BD-B71F-9A6DD28F2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174600"/>
            <a:ext cx="9072720" cy="64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3095-0760-45A9-A300-92D057578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931B-6925-42D0-963F-9859D89C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E140-DF48-4145-83E6-8455E696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372200"/>
            <a:ext cx="907272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DD83-A235-4DBF-B411-9C7A9515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30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6440"/>
            <a:ext cx="23446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AB5226F-FD1D-47E6-AD67-6A121E573D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30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4360" y="6886440"/>
            <a:ext cx="23446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94FB88F-33C3-49C3-9F32-912C631C28D6}" type="slidenum">
              <a:rPr b="0" lang="de-DE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0" y="0"/>
            <a:ext cx="10077120" cy="7552800"/>
            <a:chOff x="0" y="0"/>
            <a:chExt cx="10077120" cy="7552800"/>
          </a:xfrm>
        </p:grpSpPr>
        <p:sp>
          <p:nvSpPr>
            <p:cNvPr id="83" name="Freeform 3"/>
            <p:cNvSpPr/>
            <p:nvPr/>
          </p:nvSpPr>
          <p:spPr>
            <a:xfrm>
              <a:off x="3170880" y="4919400"/>
              <a:ext cx="6906240" cy="263340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"/>
            <p:cNvSpPr/>
            <p:nvPr/>
          </p:nvSpPr>
          <p:spPr>
            <a:xfrm>
              <a:off x="7044120" y="6347160"/>
              <a:ext cx="3033000" cy="120564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5"/>
            <p:cNvSpPr/>
            <p:nvPr/>
          </p:nvSpPr>
          <p:spPr>
            <a:xfrm>
              <a:off x="0" y="0"/>
              <a:ext cx="9762120" cy="603216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6"/>
            <p:cNvSpPr/>
            <p:nvPr/>
          </p:nvSpPr>
          <p:spPr>
            <a:xfrm>
              <a:off x="8649360" y="0"/>
              <a:ext cx="1427760" cy="48276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7"/>
            <p:cNvSpPr/>
            <p:nvPr/>
          </p:nvSpPr>
          <p:spPr>
            <a:xfrm>
              <a:off x="0" y="3471840"/>
              <a:ext cx="10077120" cy="367128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8"/>
            <p:cNvSpPr/>
            <p:nvPr/>
          </p:nvSpPr>
          <p:spPr>
            <a:xfrm>
              <a:off x="0" y="178560"/>
              <a:ext cx="3431880" cy="221364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9"/>
            <p:cNvSpPr/>
            <p:nvPr/>
          </p:nvSpPr>
          <p:spPr>
            <a:xfrm>
              <a:off x="0" y="0"/>
              <a:ext cx="8241120" cy="50770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0" y="0"/>
              <a:ext cx="6603120" cy="412272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0" y="0"/>
              <a:ext cx="5133240" cy="323028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2"/>
            <p:cNvSpPr/>
            <p:nvPr/>
          </p:nvSpPr>
          <p:spPr>
            <a:xfrm>
              <a:off x="199440" y="4982040"/>
              <a:ext cx="2612520" cy="34992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3"/>
            <p:cNvSpPr/>
            <p:nvPr/>
          </p:nvSpPr>
          <p:spPr>
            <a:xfrm>
              <a:off x="827640" y="5433840"/>
              <a:ext cx="86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4"/>
            <p:cNvSpPr/>
            <p:nvPr/>
          </p:nvSpPr>
          <p:spPr>
            <a:xfrm>
              <a:off x="827640" y="5433840"/>
              <a:ext cx="86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15"/>
            <p:cNvGrpSpPr/>
            <p:nvPr/>
          </p:nvGrpSpPr>
          <p:grpSpPr>
            <a:xfrm>
              <a:off x="335880" y="3997080"/>
              <a:ext cx="2193840" cy="1614600"/>
              <a:chOff x="335880" y="3997080"/>
              <a:chExt cx="2193840" cy="1614600"/>
            </a:xfrm>
          </p:grpSpPr>
          <p:sp>
            <p:nvSpPr>
              <p:cNvPr id="96" name="Freeform 16"/>
              <p:cNvSpPr/>
              <p:nvPr/>
            </p:nvSpPr>
            <p:spPr>
              <a:xfrm>
                <a:off x="713520" y="5265360"/>
                <a:ext cx="82080" cy="864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595520" y="3997080"/>
                <a:ext cx="572040" cy="28152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18"/>
              <p:cNvSpPr/>
              <p:nvPr/>
            </p:nvSpPr>
            <p:spPr>
              <a:xfrm>
                <a:off x="335880" y="3997080"/>
                <a:ext cx="2193840" cy="16146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19"/>
              <p:cNvSpPr/>
              <p:nvPr/>
            </p:nvSpPr>
            <p:spPr>
              <a:xfrm>
                <a:off x="1196280" y="4740480"/>
                <a:ext cx="82440" cy="1364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20"/>
              <p:cNvSpPr/>
              <p:nvPr/>
            </p:nvSpPr>
            <p:spPr>
              <a:xfrm>
                <a:off x="2244960" y="4500720"/>
                <a:ext cx="264240" cy="73260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21"/>
              <p:cNvSpPr/>
              <p:nvPr/>
            </p:nvSpPr>
            <p:spPr>
              <a:xfrm>
                <a:off x="1994400" y="4259160"/>
                <a:ext cx="292320" cy="24156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22"/>
              <p:cNvSpPr/>
              <p:nvPr/>
            </p:nvSpPr>
            <p:spPr>
              <a:xfrm>
                <a:off x="1658520" y="4049280"/>
                <a:ext cx="198000" cy="19944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23"/>
              <p:cNvSpPr/>
              <p:nvPr/>
            </p:nvSpPr>
            <p:spPr>
              <a:xfrm>
                <a:off x="1963080" y="4511160"/>
                <a:ext cx="115200" cy="10512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>
                <a:off x="1648080" y="4679280"/>
                <a:ext cx="281520" cy="3128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>
                <a:off x="1289160" y="4834800"/>
                <a:ext cx="127440" cy="9432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>
                <a:off x="1091520" y="5055480"/>
                <a:ext cx="20880" cy="9432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>
                <a:off x="862200" y="5286600"/>
                <a:ext cx="83880" cy="12564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28"/>
              <p:cNvSpPr/>
              <p:nvPr/>
            </p:nvSpPr>
            <p:spPr>
              <a:xfrm>
                <a:off x="764280" y="5296680"/>
                <a:ext cx="503640" cy="14508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29"/>
              <p:cNvSpPr/>
              <p:nvPr/>
            </p:nvSpPr>
            <p:spPr>
              <a:xfrm>
                <a:off x="1448280" y="5254560"/>
                <a:ext cx="115200" cy="18900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30"/>
              <p:cNvSpPr/>
              <p:nvPr/>
            </p:nvSpPr>
            <p:spPr>
              <a:xfrm>
                <a:off x="640080" y="5442120"/>
                <a:ext cx="134640" cy="7668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31"/>
              <p:cNvSpPr/>
              <p:nvPr/>
            </p:nvSpPr>
            <p:spPr>
              <a:xfrm>
                <a:off x="871200" y="5538240"/>
                <a:ext cx="115200" cy="5220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32"/>
              <p:cNvSpPr/>
              <p:nvPr/>
            </p:nvSpPr>
            <p:spPr>
              <a:xfrm>
                <a:off x="1469520" y="5108040"/>
                <a:ext cx="31680" cy="10512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33"/>
              <p:cNvSpPr/>
              <p:nvPr/>
            </p:nvSpPr>
            <p:spPr>
              <a:xfrm>
                <a:off x="955080" y="5286600"/>
                <a:ext cx="10080" cy="3132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34"/>
              <p:cNvSpPr/>
              <p:nvPr/>
            </p:nvSpPr>
            <p:spPr>
              <a:xfrm>
                <a:off x="934200" y="5149800"/>
                <a:ext cx="52200" cy="1364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35"/>
              <p:cNvSpPr/>
              <p:nvPr/>
            </p:nvSpPr>
            <p:spPr>
              <a:xfrm>
                <a:off x="947880" y="5317920"/>
                <a:ext cx="41760" cy="417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36"/>
              <p:cNvSpPr/>
              <p:nvPr/>
            </p:nvSpPr>
            <p:spPr>
              <a:xfrm>
                <a:off x="1401120" y="4689720"/>
                <a:ext cx="376200" cy="37800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37"/>
              <p:cNvSpPr/>
              <p:nvPr/>
            </p:nvSpPr>
            <p:spPr>
              <a:xfrm>
                <a:off x="937800" y="4741920"/>
                <a:ext cx="370440" cy="3168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38"/>
              <p:cNvSpPr/>
              <p:nvPr/>
            </p:nvSpPr>
            <p:spPr>
              <a:xfrm>
                <a:off x="1814400" y="4565520"/>
                <a:ext cx="111600" cy="1378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39"/>
              <p:cNvSpPr/>
              <p:nvPr/>
            </p:nvSpPr>
            <p:spPr>
              <a:xfrm>
                <a:off x="1516680" y="4323960"/>
                <a:ext cx="239400" cy="36216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40"/>
              <p:cNvSpPr/>
              <p:nvPr/>
            </p:nvSpPr>
            <p:spPr>
              <a:xfrm>
                <a:off x="1429560" y="4386960"/>
                <a:ext cx="110160" cy="3848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SzPct val="102834"/>
              <a:buBlip>
                <a:blip r:embed="rId2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lvl="1" marL="819000" indent="-315720">
              <a:spcBef>
                <a:spcPts val="876"/>
              </a:spcBef>
              <a:buClr>
                <a:srgbClr val="ffffff"/>
              </a:buClr>
              <a:buFont typeface="Verdan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lvl="2" marL="1260360" indent="-252360">
              <a:spcBef>
                <a:spcPts val="876"/>
              </a:spcBef>
              <a:buSzPct val="100000"/>
              <a:buBlip>
                <a:blip r:embed="rId3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lvl="3" marL="1763640" indent="-252360">
              <a:spcBef>
                <a:spcPts val="876"/>
              </a:spcBef>
              <a:buClr>
                <a:srgbClr val="ffffff"/>
              </a:buClr>
              <a:buFont typeface="Verdan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lvl="4" marL="2268360" indent="-252360">
              <a:spcBef>
                <a:spcPts val="876"/>
              </a:spcBef>
              <a:buSzPct val="100000"/>
              <a:buBlip>
                <a:blip r:embed="rId4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lvl="5" marL="2268360" indent="-252360">
              <a:spcBef>
                <a:spcPts val="876"/>
              </a:spcBef>
              <a:buSzPct val="100000"/>
              <a:buBlip>
                <a:blip r:embed="rId5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lvl="6" marL="2268360" indent="-252360">
              <a:spcBef>
                <a:spcPts val="876"/>
              </a:spcBef>
              <a:buSzPct val="100000"/>
              <a:buBlip>
                <a:blip r:embed="rId6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504360" y="6881760"/>
            <a:ext cx="2351160" cy="504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7224480" y="6881760"/>
            <a:ext cx="2352600" cy="504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68F4A03-5D6E-455D-BC73-F67E2ECF2241}" type="slidenum">
              <a:rPr b="0" lang="ru-RU" sz="11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0" y="0"/>
            <a:ext cx="10077120" cy="7552800"/>
            <a:chOff x="0" y="0"/>
            <a:chExt cx="10077120" cy="7552800"/>
          </a:xfrm>
        </p:grpSpPr>
        <p:sp>
          <p:nvSpPr>
            <p:cNvPr id="163" name="Freeform 3"/>
            <p:cNvSpPr/>
            <p:nvPr/>
          </p:nvSpPr>
          <p:spPr>
            <a:xfrm>
              <a:off x="3170880" y="4919400"/>
              <a:ext cx="6906240" cy="263340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4"/>
            <p:cNvSpPr/>
            <p:nvPr/>
          </p:nvSpPr>
          <p:spPr>
            <a:xfrm>
              <a:off x="7044120" y="6347160"/>
              <a:ext cx="3033000" cy="120564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5"/>
            <p:cNvSpPr/>
            <p:nvPr/>
          </p:nvSpPr>
          <p:spPr>
            <a:xfrm>
              <a:off x="0" y="0"/>
              <a:ext cx="9762120" cy="603216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6"/>
            <p:cNvSpPr/>
            <p:nvPr/>
          </p:nvSpPr>
          <p:spPr>
            <a:xfrm>
              <a:off x="8649360" y="0"/>
              <a:ext cx="1427760" cy="48276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7"/>
            <p:cNvSpPr/>
            <p:nvPr/>
          </p:nvSpPr>
          <p:spPr>
            <a:xfrm>
              <a:off x="0" y="3471840"/>
              <a:ext cx="10077120" cy="367128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8"/>
            <p:cNvSpPr/>
            <p:nvPr/>
          </p:nvSpPr>
          <p:spPr>
            <a:xfrm>
              <a:off x="0" y="178560"/>
              <a:ext cx="3431880" cy="221364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9"/>
            <p:cNvSpPr/>
            <p:nvPr/>
          </p:nvSpPr>
          <p:spPr>
            <a:xfrm>
              <a:off x="0" y="0"/>
              <a:ext cx="8241120" cy="50770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0"/>
            <p:cNvSpPr/>
            <p:nvPr/>
          </p:nvSpPr>
          <p:spPr>
            <a:xfrm>
              <a:off x="0" y="0"/>
              <a:ext cx="6603120" cy="412272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1"/>
            <p:cNvSpPr/>
            <p:nvPr/>
          </p:nvSpPr>
          <p:spPr>
            <a:xfrm>
              <a:off x="0" y="0"/>
              <a:ext cx="5133240" cy="323028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2"/>
            <p:cNvSpPr/>
            <p:nvPr/>
          </p:nvSpPr>
          <p:spPr>
            <a:xfrm>
              <a:off x="199440" y="4982040"/>
              <a:ext cx="2612520" cy="34992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13"/>
            <p:cNvSpPr/>
            <p:nvPr/>
          </p:nvSpPr>
          <p:spPr>
            <a:xfrm>
              <a:off x="827640" y="5433840"/>
              <a:ext cx="86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14"/>
            <p:cNvSpPr/>
            <p:nvPr/>
          </p:nvSpPr>
          <p:spPr>
            <a:xfrm>
              <a:off x="827640" y="5433840"/>
              <a:ext cx="86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Group 15"/>
            <p:cNvGrpSpPr/>
            <p:nvPr/>
          </p:nvGrpSpPr>
          <p:grpSpPr>
            <a:xfrm>
              <a:off x="335880" y="3997080"/>
              <a:ext cx="2193840" cy="1614600"/>
              <a:chOff x="335880" y="3997080"/>
              <a:chExt cx="2193840" cy="1614600"/>
            </a:xfrm>
          </p:grpSpPr>
          <p:sp>
            <p:nvSpPr>
              <p:cNvPr id="176" name="Freeform 16"/>
              <p:cNvSpPr/>
              <p:nvPr/>
            </p:nvSpPr>
            <p:spPr>
              <a:xfrm>
                <a:off x="713520" y="5265360"/>
                <a:ext cx="82080" cy="864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7"/>
              <p:cNvSpPr/>
              <p:nvPr/>
            </p:nvSpPr>
            <p:spPr>
              <a:xfrm>
                <a:off x="1595520" y="3997080"/>
                <a:ext cx="572040" cy="28152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8"/>
              <p:cNvSpPr/>
              <p:nvPr/>
            </p:nvSpPr>
            <p:spPr>
              <a:xfrm>
                <a:off x="335880" y="3997080"/>
                <a:ext cx="2193840" cy="16146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9"/>
              <p:cNvSpPr/>
              <p:nvPr/>
            </p:nvSpPr>
            <p:spPr>
              <a:xfrm>
                <a:off x="1196280" y="4740480"/>
                <a:ext cx="82440" cy="1364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20"/>
              <p:cNvSpPr/>
              <p:nvPr/>
            </p:nvSpPr>
            <p:spPr>
              <a:xfrm>
                <a:off x="2244960" y="4500720"/>
                <a:ext cx="264240" cy="73260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21"/>
              <p:cNvSpPr/>
              <p:nvPr/>
            </p:nvSpPr>
            <p:spPr>
              <a:xfrm>
                <a:off x="1994400" y="4259160"/>
                <a:ext cx="292320" cy="24156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22"/>
              <p:cNvSpPr/>
              <p:nvPr/>
            </p:nvSpPr>
            <p:spPr>
              <a:xfrm>
                <a:off x="1658520" y="4049280"/>
                <a:ext cx="198000" cy="19944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23"/>
              <p:cNvSpPr/>
              <p:nvPr/>
            </p:nvSpPr>
            <p:spPr>
              <a:xfrm>
                <a:off x="1963080" y="4511160"/>
                <a:ext cx="115200" cy="10512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24"/>
              <p:cNvSpPr/>
              <p:nvPr/>
            </p:nvSpPr>
            <p:spPr>
              <a:xfrm>
                <a:off x="1648080" y="4679280"/>
                <a:ext cx="281520" cy="3128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25"/>
              <p:cNvSpPr/>
              <p:nvPr/>
            </p:nvSpPr>
            <p:spPr>
              <a:xfrm>
                <a:off x="1289160" y="4834800"/>
                <a:ext cx="127440" cy="9432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26"/>
              <p:cNvSpPr/>
              <p:nvPr/>
            </p:nvSpPr>
            <p:spPr>
              <a:xfrm>
                <a:off x="1091520" y="5055480"/>
                <a:ext cx="20880" cy="9432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27"/>
              <p:cNvSpPr/>
              <p:nvPr/>
            </p:nvSpPr>
            <p:spPr>
              <a:xfrm>
                <a:off x="862200" y="5286600"/>
                <a:ext cx="83880" cy="12564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28"/>
              <p:cNvSpPr/>
              <p:nvPr/>
            </p:nvSpPr>
            <p:spPr>
              <a:xfrm>
                <a:off x="764280" y="5296680"/>
                <a:ext cx="503640" cy="14508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29"/>
              <p:cNvSpPr/>
              <p:nvPr/>
            </p:nvSpPr>
            <p:spPr>
              <a:xfrm>
                <a:off x="1448280" y="5254560"/>
                <a:ext cx="115200" cy="18900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30"/>
              <p:cNvSpPr/>
              <p:nvPr/>
            </p:nvSpPr>
            <p:spPr>
              <a:xfrm>
                <a:off x="640080" y="5442120"/>
                <a:ext cx="134640" cy="7668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31"/>
              <p:cNvSpPr/>
              <p:nvPr/>
            </p:nvSpPr>
            <p:spPr>
              <a:xfrm>
                <a:off x="871200" y="5538240"/>
                <a:ext cx="115200" cy="5220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32"/>
              <p:cNvSpPr/>
              <p:nvPr/>
            </p:nvSpPr>
            <p:spPr>
              <a:xfrm>
                <a:off x="1469520" y="5108040"/>
                <a:ext cx="31680" cy="10512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33"/>
              <p:cNvSpPr/>
              <p:nvPr/>
            </p:nvSpPr>
            <p:spPr>
              <a:xfrm>
                <a:off x="955080" y="5286600"/>
                <a:ext cx="10080" cy="3132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34"/>
              <p:cNvSpPr/>
              <p:nvPr/>
            </p:nvSpPr>
            <p:spPr>
              <a:xfrm>
                <a:off x="934200" y="5149800"/>
                <a:ext cx="52200" cy="1364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35"/>
              <p:cNvSpPr/>
              <p:nvPr/>
            </p:nvSpPr>
            <p:spPr>
              <a:xfrm>
                <a:off x="947880" y="5317920"/>
                <a:ext cx="41760" cy="417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36"/>
              <p:cNvSpPr/>
              <p:nvPr/>
            </p:nvSpPr>
            <p:spPr>
              <a:xfrm>
                <a:off x="1401120" y="4689720"/>
                <a:ext cx="376200" cy="37800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37"/>
              <p:cNvSpPr/>
              <p:nvPr/>
            </p:nvSpPr>
            <p:spPr>
              <a:xfrm>
                <a:off x="937800" y="4741920"/>
                <a:ext cx="370440" cy="3168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38"/>
              <p:cNvSpPr/>
              <p:nvPr/>
            </p:nvSpPr>
            <p:spPr>
              <a:xfrm>
                <a:off x="1814400" y="4565520"/>
                <a:ext cx="111600" cy="1378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39"/>
              <p:cNvSpPr/>
              <p:nvPr/>
            </p:nvSpPr>
            <p:spPr>
              <a:xfrm>
                <a:off x="1516680" y="4323960"/>
                <a:ext cx="239400" cy="36216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40"/>
              <p:cNvSpPr/>
              <p:nvPr/>
            </p:nvSpPr>
            <p:spPr>
              <a:xfrm>
                <a:off x="1429560" y="4386960"/>
                <a:ext cx="110160" cy="3848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SzPct val="102834"/>
              <a:buBlip>
                <a:blip r:embed="rId2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lvl="1" marL="819000" indent="-315720">
              <a:spcBef>
                <a:spcPts val="876"/>
              </a:spcBef>
              <a:buClr>
                <a:srgbClr val="ffffff"/>
              </a:buClr>
              <a:buFont typeface="Verdan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lvl="2" marL="1260360" indent="-252360">
              <a:spcBef>
                <a:spcPts val="876"/>
              </a:spcBef>
              <a:buSzPct val="100000"/>
              <a:buBlip>
                <a:blip r:embed="rId3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lvl="3" marL="1763640" indent="-252360">
              <a:spcBef>
                <a:spcPts val="876"/>
              </a:spcBef>
              <a:buClr>
                <a:srgbClr val="ffffff"/>
              </a:buClr>
              <a:buFont typeface="Verdan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lvl="4" marL="2268360" indent="-252360">
              <a:spcBef>
                <a:spcPts val="876"/>
              </a:spcBef>
              <a:buSzPct val="100000"/>
              <a:buBlip>
                <a:blip r:embed="rId4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lvl="5" marL="2268360" indent="-252360">
              <a:spcBef>
                <a:spcPts val="876"/>
              </a:spcBef>
              <a:buSzPct val="100000"/>
              <a:buBlip>
                <a:blip r:embed="rId5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lvl="6" marL="2268360" indent="-252360">
              <a:spcBef>
                <a:spcPts val="876"/>
              </a:spcBef>
              <a:buSzPct val="100000"/>
              <a:buBlip>
                <a:blip r:embed="rId6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0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1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2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64B0D82-1C17-4D58-B049-21C5F8DD81BD}" type="slidenum">
              <a:rPr b="0" lang="ru-RU" sz="11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de-DE" sz="2000" spc="-1" strike="noStrike">
                <a:solidFill>
                  <a:srgbClr val="2b0000"/>
                </a:solidFill>
                <a:latin typeface="Times New Roman"/>
              </a:rPr>
              <a:t>Информация по итогам проведения оценки качества организации и осуществления бюджетного процесса в поселениях </a:t>
            </a:r>
            <a:r>
              <a:rPr b="1" lang="ru-RU" sz="2000" spc="-1" strike="noStrike">
                <a:solidFill>
                  <a:srgbClr val="2b0000"/>
                </a:solidFill>
                <a:latin typeface="Times New Roman"/>
              </a:rPr>
              <a:t>Оконешниковского</a:t>
            </a:r>
            <a:r>
              <a:rPr b="1" lang="de-DE" sz="2000" spc="-1" strike="noStrike">
                <a:solidFill>
                  <a:srgbClr val="2b0000"/>
                </a:solidFill>
                <a:latin typeface="Times New Roman"/>
              </a:rPr>
              <a:t> муниципального района Омской области по состоянию </a:t>
            </a:r>
            <a:br>
              <a:rPr sz="2000"/>
            </a:br>
            <a:r>
              <a:rPr b="1" lang="de-DE" sz="2000" spc="-1" strike="noStrike">
                <a:solidFill>
                  <a:srgbClr val="2b0000"/>
                </a:solidFill>
                <a:latin typeface="Times New Roman"/>
              </a:rPr>
              <a:t>на 01 </a:t>
            </a:r>
            <a:r>
              <a:rPr b="1" lang="ru-RU" sz="2000" spc="-1" strike="noStrike">
                <a:solidFill>
                  <a:srgbClr val="2b0000"/>
                </a:solidFill>
                <a:latin typeface="Times New Roman"/>
              </a:rPr>
              <a:t>января</a:t>
            </a:r>
            <a:r>
              <a:rPr b="1" lang="de-DE" sz="2000" spc="-1" strike="noStrike">
                <a:solidFill>
                  <a:srgbClr val="2b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2b0000"/>
                </a:solidFill>
                <a:latin typeface="Times New Roman"/>
              </a:rPr>
              <a:t>2023 </a:t>
            </a:r>
            <a:r>
              <a:rPr b="1" lang="de-DE" sz="2000" spc="-1" strike="noStrike">
                <a:solidFill>
                  <a:srgbClr val="2b0000"/>
                </a:solidFill>
                <a:latin typeface="Times New Roman"/>
              </a:rPr>
              <a:t>года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503280" y="1619280"/>
          <a:ext cx="4790880" cy="5778360"/>
        </p:xfrm>
        <a:graphic>
          <a:graphicData uri="http://schemas.openxmlformats.org/drawingml/2006/table">
            <a:tbl>
              <a:tblPr/>
              <a:tblGrid>
                <a:gridCol w="687240"/>
                <a:gridCol w="2087640"/>
                <a:gridCol w="1079640"/>
                <a:gridCol w="936360"/>
              </a:tblGrid>
              <a:tr h="517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400" spc="-1" strike="noStrike">
                          <a:solidFill>
                            <a:srgbClr val="8b2200"/>
                          </a:solidFill>
                          <a:latin typeface="Times New Roman"/>
                        </a:rPr>
                        <a:t>Мес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400" spc="-1" strike="noStrike">
                          <a:solidFill>
                            <a:srgbClr val="8b2200"/>
                          </a:solidFill>
                          <a:latin typeface="Times New Roman"/>
                        </a:rPr>
                        <a:t>Наименование посе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400" spc="-1" strike="noStrike">
                          <a:solidFill>
                            <a:srgbClr val="8b2200"/>
                          </a:solidFill>
                          <a:latin typeface="Times New Roman"/>
                        </a:rPr>
                        <a:t>Бал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400" spc="-1" strike="noStrike">
                          <a:solidFill>
                            <a:srgbClr val="8b2200"/>
                          </a:solidFill>
                          <a:latin typeface="Times New Roman"/>
                        </a:rPr>
                        <a:t>Степень каче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совское сельское посе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,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омзинское сельское посе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,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26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стинское сельское посе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,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олотонивское сельское посе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,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юбимовское сельское посе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,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товское сельское посе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,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577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ргеевское сельское посе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,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3b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дреевское сельское посе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3b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,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3b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3b3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600" spc="-1" strike="noStrike">
                          <a:solidFill>
                            <a:srgbClr val="4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b3b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600" spc="-1" strike="noStrike">
                          <a:solidFill>
                            <a:srgbClr val="400000"/>
                          </a:solidFill>
                          <a:latin typeface="Times New Roman"/>
                          <a:ea typeface="Times New Roman"/>
                        </a:rPr>
                        <a:t>Оконешниковское городское посе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b3b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600" spc="-1" strike="noStrike">
                          <a:solidFill>
                            <a:srgbClr val="400000"/>
                          </a:solidFill>
                          <a:latin typeface="Times New Roman"/>
                          <a:ea typeface="Times New Roman"/>
                        </a:rPr>
                        <a:t>21,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b3b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>
                          <a:solidFill>
                            <a:srgbClr val="4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b3b3"/>
                    </a:solidFill>
                  </a:tcPr>
                </a:tc>
              </a:tr>
            </a:tbl>
          </a:graphicData>
        </a:graphic>
      </p:graphicFrame>
      <p:sp>
        <p:nvSpPr>
          <p:cNvPr id="244" name="Rectangle 154"/>
          <p:cNvSpPr/>
          <p:nvPr/>
        </p:nvSpPr>
        <p:spPr>
          <a:xfrm>
            <a:off x="5688000" y="1763640"/>
            <a:ext cx="72072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56"/>
          <p:cNvSpPr/>
          <p:nvPr/>
        </p:nvSpPr>
        <p:spPr>
          <a:xfrm>
            <a:off x="5688000" y="2340000"/>
            <a:ext cx="720720" cy="576360"/>
          </a:xfrm>
          <a:prstGeom prst="rect">
            <a:avLst/>
          </a:prstGeom>
          <a:solidFill>
            <a:srgbClr val="00b0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57"/>
          <p:cNvSpPr/>
          <p:nvPr/>
        </p:nvSpPr>
        <p:spPr>
          <a:xfrm>
            <a:off x="5688000" y="2916360"/>
            <a:ext cx="720720" cy="576000"/>
          </a:xfrm>
          <a:prstGeom prst="rect">
            <a:avLst/>
          </a:prstGeom>
          <a:solidFill>
            <a:srgbClr val="ffb3b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58"/>
          <p:cNvSpPr/>
          <p:nvPr/>
        </p:nvSpPr>
        <p:spPr>
          <a:xfrm>
            <a:off x="6408720" y="1763640"/>
            <a:ext cx="20160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олее 24,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тепень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59"/>
          <p:cNvSpPr/>
          <p:nvPr/>
        </p:nvSpPr>
        <p:spPr>
          <a:xfrm>
            <a:off x="6408720" y="2340000"/>
            <a:ext cx="20160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1,84-24,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степень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60"/>
          <p:cNvSpPr/>
          <p:nvPr/>
        </p:nvSpPr>
        <p:spPr>
          <a:xfrm>
            <a:off x="6408720" y="2916360"/>
            <a:ext cx="201600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енее 21,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тепень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5:32:33Z</dcterms:created>
  <dc:creator/>
  <dc:description/>
  <dc:language>en-US</dc:language>
  <cp:lastModifiedBy>Inna</cp:lastModifiedBy>
  <cp:lastPrinted>2023-02-28T10:00:50Z</cp:lastPrinted>
  <dcterms:modified xsi:type="dcterms:W3CDTF">2023-02-28T10:00:54Z</dcterms:modified>
  <cp:revision>76</cp:revision>
  <dc:subject/>
  <dc:title>Информация по результатам проведения оценки качества организации и осуществления бюджетного процесса в поселениях Крутинского муниципального района  по состоянию  на 01 июля 2010 года</dc:title>
</cp:coreProperties>
</file>