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B6D-8B4D-4F80-B33A-8761C0E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1A7-D08E-48B5-B27B-AF828BB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645-855F-4D24-A023-B6FF9548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5E3-77FA-4DD9-9E88-37B078F3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C737-7BC4-4C79-8EAC-6176861F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ED7-B932-4C9F-9608-79E4F0E3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D1F-451E-4C47-9912-CA5A4608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F4E-1B95-4E85-9381-78D02C03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AFFE-156E-4451-930D-06FE1DD6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9773-84E3-4519-8738-BC812D78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A285-18ED-4CF0-AA3A-958D9A1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695-6E8A-43A4-8531-DEDF2A52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382-2AB7-488B-9544-CCD2A9E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F193-1137-48C9-A0D2-B7D683F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D1B-A0A0-47C1-A68A-C02E3C3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024E-4B17-4FDC-8880-56EE1AE1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B3A4-4283-4E25-BB43-F742A778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0F8F-E9FE-4078-A510-4CC4C7FC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C1C5-D1A8-4B8E-B914-D45892EC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960B-F8DD-43AF-A026-FBDC2299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8054-297E-482B-A141-B77DDF3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121F-64E9-492B-9277-9DA974FD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3DD-33AB-4FA3-AD7E-1CE9009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6E34-22CE-40CF-8644-D4324A5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5942-328A-41FD-BFBE-8BA17138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AC8A-823C-46AC-9FDD-2BD2333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702E-C065-42E3-B0C0-6CE926B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64E8-BF15-44AD-80A9-2A3A4D0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774B-2D7F-4CEC-87B6-2B17778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A4CE-4773-4CB3-8EA4-FF64DB1A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C46E-A9E0-4305-8A32-29F07FA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AA49-2061-4391-9C93-74CFF5B2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CAA8-F31D-4D1A-B128-003DB197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811-56F2-4E12-B743-F56A8A9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F2CD-E638-4220-A61C-EEEACBD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4EE2-F8E1-456E-BE60-DA18B2B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6885-6746-432F-AE67-A443CA2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DE46-A12C-456C-91D9-FDAAF36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C268-25DD-4DBB-9458-138CC379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912C-927E-4C74-8251-CA6FF81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3348-BA1E-4D03-8A22-712EF4C9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0A6A-DAAD-42DB-A902-734E27BD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527E-A1EF-4ACC-B10D-17B092EE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DFB-015D-48D4-A8B2-6E573CE0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988-82B2-48B1-8AA3-085B7A5D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B52-13E2-4891-B7BD-89726AD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41A-069A-4436-AE0B-93389D5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45B-760B-41C4-A103-A3B64D0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F3D987-8308-4986-9817-81CD38AFF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99F4C5-868D-4BAD-BD38-59B44149E608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8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9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2B3456-407F-4F46-A5FC-252BD1D7AF5B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16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17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B2827D-F6B7-4A87-BCA2-04B40D8997E5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Оконешниковского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муниципального района Омской области по состоянию </a:t>
            </a:r>
            <a:br>
              <a:rPr sz="2000"/>
            </a:b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на 01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января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2024 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3280" y="1619280"/>
          <a:ext cx="4790880" cy="5778360"/>
        </p:xfrm>
        <a:graphic>
          <a:graphicData uri="http://schemas.openxmlformats.org/drawingml/2006/table">
            <a:tbl>
              <a:tblPr/>
              <a:tblGrid>
                <a:gridCol w="687240"/>
                <a:gridCol w="2087640"/>
                <a:gridCol w="1079640"/>
                <a:gridCol w="93636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Наименован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Степень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омз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им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ни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66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Оконешниковское город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24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154"/>
          <p:cNvSpPr/>
          <p:nvPr/>
        </p:nvSpPr>
        <p:spPr>
          <a:xfrm>
            <a:off x="5688000" y="1763640"/>
            <a:ext cx="72072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6"/>
          <p:cNvSpPr/>
          <p:nvPr/>
        </p:nvSpPr>
        <p:spPr>
          <a:xfrm>
            <a:off x="5688000" y="2340000"/>
            <a:ext cx="720720" cy="576360"/>
          </a:xfrm>
          <a:prstGeom prst="rect">
            <a:avLst/>
          </a:prstGeom>
          <a:solidFill>
            <a:srgbClr val="ffc2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7"/>
          <p:cNvSpPr/>
          <p:nvPr/>
        </p:nvSpPr>
        <p:spPr>
          <a:xfrm>
            <a:off x="5688000" y="2916360"/>
            <a:ext cx="720720" cy="576000"/>
          </a:xfrm>
          <a:prstGeom prst="rect">
            <a:avLst/>
          </a:prstGeom>
          <a:solidFill>
            <a:srgbClr val="ff1a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8"/>
          <p:cNvSpPr/>
          <p:nvPr/>
        </p:nvSpPr>
        <p:spPr>
          <a:xfrm>
            <a:off x="6408720" y="176364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ее 28,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9"/>
          <p:cNvSpPr/>
          <p:nvPr/>
        </p:nvSpPr>
        <p:spPr>
          <a:xfrm>
            <a:off x="6408720" y="234000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,05-28,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6408720" y="2916360"/>
            <a:ext cx="20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нее 26,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>Inna</cp:lastModifiedBy>
  <cp:lastPrinted>2023-02-28T10:00:50Z</cp:lastPrinted>
  <dcterms:modified xsi:type="dcterms:W3CDTF">2024-03-22T07:21:53Z</dcterms:modified>
  <cp:revision>80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