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112-879D-4DCD-9B16-681EB349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EDA-DCB4-4B1C-931B-3DF3A7B3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3AD-A83C-468D-8506-61B7069E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D6A-AC6B-4590-83A8-2005C3F9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62FF-3C9D-4CAE-872B-C2E3F206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14C-6959-4D50-89E0-20CD75B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E3B8-79F5-4FB2-BC92-64B602E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627D-E853-4503-887A-0BD54592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E517-2F60-4DED-8930-DEA89F6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90A-FEE6-4A5B-8B02-43C8F08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B47-8A19-47FB-813D-2E3505E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E05-BB41-4835-8BB8-4C4FE833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0258-183A-488D-AC6D-B58DB47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5466-44D5-4631-B29A-AAA17B2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E2A-C2B7-40EB-A099-DDEEC20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004E-B890-4661-91DA-9F63F69A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A96-CB45-461E-836F-1CE28421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984A-3FC1-4DB2-B851-E391EF63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1E96-6F17-437A-9107-87EDF22F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7A9E-4393-4A90-8B04-93F249B6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A1DA-05A1-455B-99C6-162619D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AA5E-A3AE-4459-820D-C9F312A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A38-526B-43DA-B61D-9720F034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BDED-D618-4AF4-97F6-2DCBEC81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CC7D-40C2-4D5E-89B1-8556D822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7C1A-518F-48A6-BF76-73DF2EA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BE2D-0557-4323-A1D0-7AB2966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2BDF-F5D3-4E47-9046-D375655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C8CD-1A25-424C-9498-9F65E476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BF71-FB9F-4057-B8B1-AC59FC9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A196-2DBC-4BFA-9D78-2C44F32A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A70FC-929A-499C-889D-A4C1F6E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D2B9-254F-41FB-9A00-28793736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24B-F98D-4284-B214-482B842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9BBD-2C80-450B-9ABB-4864110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26CA-7B10-405C-89F3-1EE1B72F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CBB7-8E7E-4060-A5D9-0065A43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BB76-CB40-4B6A-97D3-71ECF1B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9960-C87A-4410-947E-76FE45F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7065-8CB2-41E6-A693-C02C25C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F8CF-96B9-4208-8D4D-C17B4A9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2A28-3450-445E-B939-8D3EEA46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4F6A-685F-4E00-B437-B7840015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636-704E-4FA7-93EB-A71004F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174600"/>
            <a:ext cx="9072720" cy="64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5FD-54C7-4E8D-8F9B-BC7258E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EA5-6B7F-473C-B6FD-19AB3525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522-1117-4839-8746-79B97D6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46F-981E-4E92-ADFE-26489E1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80BC4A-D9E2-4868-A945-21287FAEE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A6085C-6EC5-4AF9-9E06-527D9AAFE63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8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9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1867D-23D7-44DF-AED3-37109FC90442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10077120" cy="7552800"/>
            <a:chOff x="0" y="0"/>
            <a:chExt cx="10077120" cy="7552800"/>
          </a:xfrm>
        </p:grpSpPr>
        <p:sp>
          <p:nvSpPr>
            <p:cNvPr id="163" name="Freeform 3"/>
            <p:cNvSpPr/>
            <p:nvPr/>
          </p:nvSpPr>
          <p:spPr>
            <a:xfrm>
              <a:off x="3170880" y="4919400"/>
              <a:ext cx="6906240" cy="263340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7044120" y="6347160"/>
              <a:ext cx="3033000" cy="120564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0"/>
              <a:ext cx="9762120" cy="603216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8649360" y="0"/>
              <a:ext cx="1427760" cy="48276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3471840"/>
              <a:ext cx="10077120" cy="367128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0" y="178560"/>
              <a:ext cx="3431880" cy="221364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0" y="0"/>
              <a:ext cx="8241120" cy="50770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0"/>
              <a:ext cx="6603120" cy="412272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0" y="0"/>
              <a:ext cx="5133240" cy="323028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9440" y="4982040"/>
              <a:ext cx="2612520" cy="34992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827640" y="5433840"/>
              <a:ext cx="86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5"/>
            <p:cNvGrpSpPr/>
            <p:nvPr/>
          </p:nvGrpSpPr>
          <p:grpSpPr>
            <a:xfrm>
              <a:off x="335880" y="3997080"/>
              <a:ext cx="2193840" cy="1614600"/>
              <a:chOff x="335880" y="3997080"/>
              <a:chExt cx="2193840" cy="1614600"/>
            </a:xfrm>
          </p:grpSpPr>
          <p:sp>
            <p:nvSpPr>
              <p:cNvPr id="176" name="Freeform 16"/>
              <p:cNvSpPr/>
              <p:nvPr/>
            </p:nvSpPr>
            <p:spPr>
              <a:xfrm>
                <a:off x="713520" y="5265360"/>
                <a:ext cx="82080" cy="864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"/>
              <p:cNvSpPr/>
              <p:nvPr/>
            </p:nvSpPr>
            <p:spPr>
              <a:xfrm>
                <a:off x="1595520" y="3997080"/>
                <a:ext cx="572040" cy="28152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>
                <a:off x="335880" y="3997080"/>
                <a:ext cx="2193840" cy="16146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9"/>
              <p:cNvSpPr/>
              <p:nvPr/>
            </p:nvSpPr>
            <p:spPr>
              <a:xfrm>
                <a:off x="1196280" y="47404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0"/>
              <p:cNvSpPr/>
              <p:nvPr/>
            </p:nvSpPr>
            <p:spPr>
              <a:xfrm>
                <a:off x="2244960" y="4500720"/>
                <a:ext cx="264240" cy="73260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1"/>
              <p:cNvSpPr/>
              <p:nvPr/>
            </p:nvSpPr>
            <p:spPr>
              <a:xfrm>
                <a:off x="1994400" y="4259160"/>
                <a:ext cx="292320" cy="24156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2"/>
              <p:cNvSpPr/>
              <p:nvPr/>
            </p:nvSpPr>
            <p:spPr>
              <a:xfrm>
                <a:off x="1658520" y="4049280"/>
                <a:ext cx="198000" cy="19944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3"/>
              <p:cNvSpPr/>
              <p:nvPr/>
            </p:nvSpPr>
            <p:spPr>
              <a:xfrm>
                <a:off x="1963080" y="4511160"/>
                <a:ext cx="115200" cy="105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4"/>
              <p:cNvSpPr/>
              <p:nvPr/>
            </p:nvSpPr>
            <p:spPr>
              <a:xfrm>
                <a:off x="1648080" y="4679280"/>
                <a:ext cx="281520" cy="3128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5"/>
              <p:cNvSpPr/>
              <p:nvPr/>
            </p:nvSpPr>
            <p:spPr>
              <a:xfrm>
                <a:off x="1289160" y="4834800"/>
                <a:ext cx="12744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6"/>
              <p:cNvSpPr/>
              <p:nvPr/>
            </p:nvSpPr>
            <p:spPr>
              <a:xfrm>
                <a:off x="1091520" y="5055480"/>
                <a:ext cx="20880" cy="943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7"/>
              <p:cNvSpPr/>
              <p:nvPr/>
            </p:nvSpPr>
            <p:spPr>
              <a:xfrm>
                <a:off x="862200" y="5286600"/>
                <a:ext cx="83880" cy="1256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8"/>
              <p:cNvSpPr/>
              <p:nvPr/>
            </p:nvSpPr>
            <p:spPr>
              <a:xfrm>
                <a:off x="764280" y="5296680"/>
                <a:ext cx="503640" cy="1450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9"/>
              <p:cNvSpPr/>
              <p:nvPr/>
            </p:nvSpPr>
            <p:spPr>
              <a:xfrm>
                <a:off x="1448280" y="5254560"/>
                <a:ext cx="115200" cy="18900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0"/>
              <p:cNvSpPr/>
              <p:nvPr/>
            </p:nvSpPr>
            <p:spPr>
              <a:xfrm>
                <a:off x="640080" y="5442120"/>
                <a:ext cx="134640" cy="766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1"/>
              <p:cNvSpPr/>
              <p:nvPr/>
            </p:nvSpPr>
            <p:spPr>
              <a:xfrm>
                <a:off x="871200" y="5538240"/>
                <a:ext cx="115200" cy="5220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2"/>
              <p:cNvSpPr/>
              <p:nvPr/>
            </p:nvSpPr>
            <p:spPr>
              <a:xfrm>
                <a:off x="1469520" y="51080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3"/>
              <p:cNvSpPr/>
              <p:nvPr/>
            </p:nvSpPr>
            <p:spPr>
              <a:xfrm>
                <a:off x="955080" y="528660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4"/>
              <p:cNvSpPr/>
              <p:nvPr/>
            </p:nvSpPr>
            <p:spPr>
              <a:xfrm>
                <a:off x="934200" y="5149800"/>
                <a:ext cx="52200" cy="13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5"/>
              <p:cNvSpPr/>
              <p:nvPr/>
            </p:nvSpPr>
            <p:spPr>
              <a:xfrm>
                <a:off x="947880" y="5317920"/>
                <a:ext cx="41760" cy="417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6"/>
              <p:cNvSpPr/>
              <p:nvPr/>
            </p:nvSpPr>
            <p:spPr>
              <a:xfrm>
                <a:off x="1401120" y="4689720"/>
                <a:ext cx="376200" cy="37800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7"/>
              <p:cNvSpPr/>
              <p:nvPr/>
            </p:nvSpPr>
            <p:spPr>
              <a:xfrm>
                <a:off x="937800" y="4741920"/>
                <a:ext cx="370440" cy="3168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8"/>
              <p:cNvSpPr/>
              <p:nvPr/>
            </p:nvSpPr>
            <p:spPr>
              <a:xfrm>
                <a:off x="1814400" y="4565520"/>
                <a:ext cx="111600" cy="1378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1516680" y="4323960"/>
                <a:ext cx="239400" cy="36216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1429560" y="4386960"/>
                <a:ext cx="110160" cy="3848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09618F-6557-40D9-A07E-1CFFF2D08C8C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174600"/>
            <a:ext cx="9072720" cy="138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Информация по итогам проведения оценки качества организации и осуществления бюджетного процесса в поселениях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Оконешниковского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муниципального района Омской области по состоянию </a:t>
            </a:r>
            <a:br>
              <a:rPr sz="2000"/>
            </a:b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на 01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января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b0000"/>
                </a:solidFill>
                <a:latin typeface="Times New Roman"/>
              </a:rPr>
              <a:t>2025 </a:t>
            </a:r>
            <a:r>
              <a:rPr b="1" lang="de-DE" sz="2000" spc="-1" strike="noStrike">
                <a:solidFill>
                  <a:srgbClr val="2b0000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3280" y="1619280"/>
          <a:ext cx="4790880" cy="5778360"/>
        </p:xfrm>
        <a:graphic>
          <a:graphicData uri="http://schemas.openxmlformats.org/drawingml/2006/table">
            <a:tbl>
              <a:tblPr/>
              <a:tblGrid>
                <a:gridCol w="687240"/>
                <a:gridCol w="2087640"/>
                <a:gridCol w="1079640"/>
                <a:gridCol w="93636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Наименование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400" spc="-1" strike="noStrike">
                          <a:solidFill>
                            <a:srgbClr val="8b2200"/>
                          </a:solidFill>
                          <a:latin typeface="Times New Roman"/>
                        </a:rPr>
                        <a:t>Степень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ни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е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омзин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овское 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имовское сель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Оконешниковское городское 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6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23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4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0000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154"/>
          <p:cNvSpPr/>
          <p:nvPr/>
        </p:nvSpPr>
        <p:spPr>
          <a:xfrm>
            <a:off x="5688000" y="1763640"/>
            <a:ext cx="720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6"/>
          <p:cNvSpPr/>
          <p:nvPr/>
        </p:nvSpPr>
        <p:spPr>
          <a:xfrm>
            <a:off x="5688000" y="2340000"/>
            <a:ext cx="720720" cy="576360"/>
          </a:xfrm>
          <a:prstGeom prst="rect">
            <a:avLst/>
          </a:prstGeom>
          <a:solidFill>
            <a:srgbClr val="ffc2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7"/>
          <p:cNvSpPr/>
          <p:nvPr/>
        </p:nvSpPr>
        <p:spPr>
          <a:xfrm>
            <a:off x="5688000" y="2916360"/>
            <a:ext cx="72072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8"/>
          <p:cNvSpPr/>
          <p:nvPr/>
        </p:nvSpPr>
        <p:spPr>
          <a:xfrm>
            <a:off x="6408720" y="176364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ее 29,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9"/>
          <p:cNvSpPr/>
          <p:nvPr/>
        </p:nvSpPr>
        <p:spPr>
          <a:xfrm>
            <a:off x="6408720" y="234000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,94 - 29,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степе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6408720" y="2916360"/>
            <a:ext cx="201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нее 25,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ен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3Z</dcterms:created>
  <dc:creator/>
  <dc:description/>
  <dc:language>en-US</dc:language>
  <cp:lastModifiedBy>Image&amp;Matros ®</cp:lastModifiedBy>
  <cp:lastPrinted>2023-02-28T10:00:50Z</cp:lastPrinted>
  <dcterms:modified xsi:type="dcterms:W3CDTF">2025-02-20T07:04:40Z</dcterms:modified>
  <cp:revision>85</cp:revision>
  <dc:subject/>
  <dc:title>Информация по результатам проведения оценки качества организации и осуществления бюджетного процесса в поселениях Крутинского муниципального района  по состоянию  на 01 июля 2010 года</dc:title>
</cp:coreProperties>
</file>